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A7D-17DC-4A8B-9A6D-4722201E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DD9-B9C2-4E2E-8F59-FD82705A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6A3C5-5A8F-4741-A78A-CEE1105A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3BD5-D46F-4E7E-B0B5-525B6D9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8B9C-3A0D-4CF8-B3ED-2FBB8F54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12B06-E96C-47B7-8B33-2250C06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D59E-B624-47C3-AE59-37A85845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8682-9C69-4712-844F-6D6610D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94EA-6745-475E-B3DD-2068EAED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77776-8938-4AB3-863A-24866C1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33D99-EE44-495F-9518-97345C6C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D45F8-2054-4AC6-BC2C-D84773CE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640-5524-4BDD-982C-DEC2CEC8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97AC7-7EBE-4054-9267-6C846CB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92C9-D3A8-438D-AA18-353D6E9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4E8A-232C-466A-BC0B-F73CE635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6066-5542-4896-86A7-242BBD2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67784-1E36-46BE-B49F-C3F70A5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3801E-BE7B-4C59-95BD-1139FEC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C796D-84DE-4B34-97D1-25F5635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143D-5DAF-41EF-B3AF-1341545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28B11-FCF3-4FC9-AA83-F00766B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4DC46-F2F5-44B2-BA7E-BA099E2C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819-E63E-4FC4-9B31-EE708AC6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0CF5-F845-40A9-8E60-6446127B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E42E-7499-4565-8400-E659CCF4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65EBD-E634-483D-A8B2-E981CDB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5719F-EEBB-42E5-8AD6-E40685C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DD220-D4A9-4994-8981-5713BD12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A879C-2311-41E0-A709-39690EC2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54F91-FB4B-4349-919B-0A8D04A7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2E5B-2B56-43D6-8C5B-C2BDB4E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DDDB2-3FEB-43E1-8708-E3F27B6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A8243-41D1-4D51-B71E-219A4F3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F28-4521-4889-8591-D3E6291B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9A47-2339-47E4-B24F-FEF67267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328F-A869-4A9C-B7AA-B2D5DC1D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449D-CA7A-49FA-A350-BC1DE62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37133-5A60-4796-953C-A8883505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D41F1-E78D-4D5B-8C3E-FC69DD2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917DA-0305-4AD0-899A-EF91F053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3FFFA-317F-4213-9E4A-2A90E921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63E15-68FB-459A-BA92-191482D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F6D87-7433-4C57-B753-6E43F40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4FA5-9C50-4D02-9B34-68C1E0F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8EF-93B3-47A1-B569-48399BE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C3AF-0926-427F-A9FA-F887C6C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A2D5F-F6AC-4237-9E78-B5B7BCC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CEB1D-08AD-45F2-AB51-5765826E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4C3B9-F9C7-4315-A8C4-40C98E9E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FE295-8589-415D-967C-3BDFED85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E5C-260B-4064-9DBB-031B2FA6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C91B-4E47-4025-BF20-CC272A1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E211-D3F3-40A9-B00A-B521C5C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166-2B5F-4BD6-A6FD-83EA588A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B0B2-D6A5-472F-AC19-B46A5CA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113-6FFA-4B88-86C6-7D41E55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CAA-62F3-4289-846A-D9D930C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EA4A-E9A3-4E91-9129-D88B596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1A8E-F809-498A-B39F-52CD07F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4B6-9A21-4E1A-8DBE-48C15CC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A03-6B6A-4321-B4EB-D750AF56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2F1C-7377-4B53-B35B-44ED1AD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5996-2C3D-4B00-961A-A0156B78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7943-3AAA-42C1-9903-50F767C8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4C0A-0432-4B43-89DE-73CC693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9A2B-0D0B-4AC2-A5D4-60CE8E7E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F56-678B-4351-9C85-C99975F2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1E92-8FA2-4C30-A1C8-5638B91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BBCA-5EE9-474A-AB1C-B05C307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6E3D-79F7-44E5-93AD-D333DE8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5F08-47A0-4782-A31F-78832CB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B4DA-E603-44EB-9764-2F6F0B4B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FB85-C966-4AAF-8F10-A13711C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C59E-8E92-462E-929F-9931F23E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9EE3-C2EC-4761-8757-3DC8FE4A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C9E5-7D61-4FA9-9481-C85ACFC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5A51-E811-4892-ADCF-F63274CF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621-74E9-4C3A-9556-0AF1C742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0756-6267-496C-9DAC-BD87E02F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4909-6DF0-46CE-9576-3009C55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7164-E043-4509-92E3-A48F9119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D922-F147-43AA-8262-5B981CAF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C57D-DF50-4CCD-9828-B4069FC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C27A-E3A9-40BE-8522-7C4622D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67F2-9975-458D-9D95-A2FCB55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822A-681B-44D7-8DC0-8EBE6ACE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2083-29B1-4D08-B83E-3704536F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439D2-3E87-4826-87AC-3DB13346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5A-B83C-45AC-B03C-AD668F2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757D2-7BE8-43BF-8F41-F7240998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CAF9-35D3-493C-BA3B-6B6E71A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C47D-025E-48FC-9BA0-9E245E3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07E5-AFD8-4DE2-811F-5F7B447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568A-640F-4702-8B56-B2A73F1A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B971-2595-48A4-8ACD-6EC61A6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DBD8-862B-426C-8C16-7DB574E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B98D-21D3-435E-8767-D90415F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D342-03A1-4B90-92FD-4E5DC3D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0164-439F-4D5B-B22A-AA12E72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318-7A6E-4B3E-BB63-BC443EC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E566-1F32-46A6-A30B-D67BF2D0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D816-22BE-4AC8-922A-D021473B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031C-EC41-4BDD-8DAE-FAFD4663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496E-2DD0-4AF8-BE01-30EF8C5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5A33A-EA34-4C35-B439-244EF8E6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7871-134C-497E-9B6E-9F8C984B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8702-37C9-4EF3-8942-E3CA685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BB1A-25FD-4FC9-A87D-03ED3FD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A48EB-52EB-4D33-A1BD-2B2E7DB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D703-3E36-4FFC-886E-FB0AB55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500-AE55-4563-9B5B-D15B1C81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D1B6-11E2-4EBD-B771-67BC181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3498-7C07-4EBD-AEB6-CDC345C2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9E20-D3B9-45BF-9870-213638D9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AB3E-11EC-452B-B90A-505D23D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2732-EA11-45D0-A57F-5C25C42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9A9D-3FC9-4DA5-94D1-8B65EFE7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5E78-1B32-4119-83AC-BCC0DF2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A3C0-A767-4FA5-97AA-D84F978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0B4E-0CDB-4230-AB13-EE35257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4644-F8AA-402B-BAF0-CFF1452C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7B1-2DFA-4071-A440-12C1176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AB80-DCAD-4546-90B1-CBA4AD2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48787-D2A2-402B-914D-E60878B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833C-8591-48D9-9494-F02448DC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E701-F1F3-4A27-9A6E-3FD3B2FF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3919-32DF-4F4F-A6BE-62AFC32F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4730-5EDD-45EC-9223-4DC43FD0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02859-0288-44C1-A934-1D5327B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B6B31-4332-4E5F-9901-23BADC1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2504-FAA2-4902-88D5-DF81BD3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18677-80BA-4702-BC7A-6000C92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C44-C9E1-47D3-B966-F837C11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333C3-E049-4FDB-9A62-07F1090E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2AF5-F806-48E5-B82C-678E49E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094B-F1E2-45F8-BBC6-79C991E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20BB-E86E-4E11-B66D-D367CA9A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704D-24FE-4F96-BD8F-E1857EC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E712-F264-4C92-A195-958E30F3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9A41-3193-4F5C-B574-11EDA08B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D16B4-5A39-481B-997B-D1C1982F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FC49E-B3C8-4164-B86C-BAF72BE3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3C083-5F27-43B3-9291-17327EA1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68B8-5B2F-4818-8611-598EB16CC1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680-3870-4C77-8095-BD22B7FABC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4A52-A4F6-4144-B0F3-EBA145E0A1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5C45-E5EA-4490-B902-845C17BE2E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DE97-1142-4B31-8F37-405AD2635C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AE1D-1D23-451E-A3BA-C61600F512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A45-356F-4840-BDA1-EBA5DC184C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E806-092D-412A-8C05-8970C04BDB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B24-1CE3-44A8-8F3E-5F9F723E85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80C1-A6F6-4753-B475-395C4D14FE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0758-C3F0-44E8-8B3B-7AB784910B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6FE-E2C0-4139-BDF0-20D573E43B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1 Ty sám si nás zhromaž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si nás zhromažd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z milosti nám svoje požehna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zlého nás zba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eba len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 zástup spasený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osláv sa v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 búrkach si prístavom záchrany bol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z úskalia skúš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viedol s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lúdiacich hľa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nádej si dáv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láskavý tvoj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prevád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s láskou ti chv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vzdávam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z úst našich zn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a nepre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nie sme tu s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, Pane, si s n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š si smer i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náš Spas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4:12:41Z</dcterms:modified>
  <cp:revision>22</cp:revision>
  <dc:subject/>
  <dc:title>Je veľký náš Pán, on slávy je Kráľ Nech do všetkých strán  spev vrúcnych znie chvál.</dc:title>
</cp:coreProperties>
</file>